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059D-5809-46C9-81B1-0DCAC6197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9E11-D274-4638-994F-0401F8939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0097-D0B5-4737-BCBE-FB6A0488D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BAB4-AC18-463C-9D01-8A148CC7D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671E-2A68-4658-859B-B0D574FE2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CB65-CBF2-45B3-B2F3-394D2C612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ECE2-A400-4E48-89FF-5198237A5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4A2B-00F9-4160-929D-0C31CB49A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76D9-A4E9-4E40-84AC-F925D09F6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780C-D433-40D1-8F5C-1A37E09AB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2F6B-E4D5-4A3A-A4C3-9BE897FD8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3A4E-64F8-4B5D-99E6-72AFAA44D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3B614-C079-4A7B-A628-46CCFA5400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190476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Comic Sans MS"/>
              </a:rPr>
              <a:t>Creating your own Superher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438280" y="304920"/>
            <a:ext cx="394344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438280" y="304920"/>
            <a:ext cx="416556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90920" y="304920"/>
            <a:ext cx="420516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190600" y="57240"/>
            <a:ext cx="476280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681280" y="600120"/>
            <a:ext cx="378144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You’ll need a costu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62320" y="304920"/>
            <a:ext cx="40608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158920" y="901800"/>
            <a:ext cx="4826160" cy="50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362320" y="152280"/>
            <a:ext cx="463680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828800" y="1050840"/>
            <a:ext cx="548640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You’ll need a theme</a:t>
            </a:r>
            <a:br>
              <a:rPr sz="4000"/>
            </a:br>
            <a:r>
              <a:rPr b="1" lang="en-US" sz="3200" spc="-1" strike="noStrike">
                <a:solidFill>
                  <a:srgbClr val="cc3399"/>
                </a:solidFill>
                <a:latin typeface="Comic Sans MS"/>
              </a:rPr>
              <a:t>(and decide on your character’s pow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666880" y="457200"/>
            <a:ext cx="40212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371600" y="838080"/>
            <a:ext cx="649116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666880" y="787320"/>
            <a:ext cx="3810240" cy="52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590920" y="304920"/>
            <a:ext cx="40338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99"/>
                </a:solidFill>
                <a:latin typeface="Adobe Garamond Pro Bold"/>
              </a:rPr>
              <a:t>Your Assig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dobe Garamond Pro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dobe Garamond Pro Bold"/>
              </a:rPr>
              <a:t>Brainstorm at least </a:t>
            </a:r>
            <a:r>
              <a:rPr b="0" lang="en-US" sz="2800" spc="-1" strike="noStrike">
                <a:solidFill>
                  <a:srgbClr val="bbe0e3"/>
                </a:solidFill>
                <a:latin typeface="Adobe Garamond Pro Bold"/>
              </a:rPr>
              <a:t>15</a:t>
            </a:r>
            <a:r>
              <a:rPr b="0" lang="en-US" sz="2800" spc="-1" strike="noStrike">
                <a:solidFill>
                  <a:srgbClr val="ffffff"/>
                </a:solidFill>
                <a:latin typeface="Adobe Garamond Pro Bold"/>
              </a:rPr>
              <a:t> possible themes – then choose 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dobe Garamond Pro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dobe Garamond Pro Bold"/>
              </a:rPr>
              <a:t>Brainstorm at least </a:t>
            </a:r>
            <a:r>
              <a:rPr b="0" lang="en-US" sz="2800" spc="-1" strike="noStrike">
                <a:solidFill>
                  <a:srgbClr val="cc3399"/>
                </a:solidFill>
                <a:latin typeface="Adobe Garamond Pro Bold"/>
              </a:rPr>
              <a:t>10</a:t>
            </a:r>
            <a:r>
              <a:rPr b="0" lang="en-US" sz="2800" spc="-1" strike="noStrike">
                <a:solidFill>
                  <a:srgbClr val="ffff00"/>
                </a:solidFill>
                <a:latin typeface="Adobe Garamond Pro Bold"/>
              </a:rPr>
              <a:t> possible names for your character – then choose 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dobe Garamond Pro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dobe Garamond Pro Bold"/>
              </a:rPr>
              <a:t>Sketch at least </a:t>
            </a:r>
            <a:r>
              <a:rPr b="0" lang="en-US" sz="2800" spc="-1" strike="noStrike">
                <a:solidFill>
                  <a:srgbClr val="bbe0e3"/>
                </a:solidFill>
                <a:latin typeface="Adobe Garamond Pro Bold"/>
              </a:rPr>
              <a:t>5</a:t>
            </a:r>
            <a:r>
              <a:rPr b="0" lang="en-US" sz="2800" spc="-1" strike="noStrike">
                <a:solidFill>
                  <a:srgbClr val="ffffff"/>
                </a:solidFill>
                <a:latin typeface="Adobe Garamond Pro Bold"/>
              </a:rPr>
              <a:t> possible costume designs for your character – then choose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dobe Garamond Pro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dobe Garamond Pro Bold"/>
              </a:rPr>
              <a:t>Draw </a:t>
            </a:r>
            <a:r>
              <a:rPr b="0" lang="en-US" sz="2800" spc="-1" strike="noStrike">
                <a:solidFill>
                  <a:srgbClr val="cc3399"/>
                </a:solidFill>
                <a:latin typeface="Adobe Garamond Pro Bold"/>
              </a:rPr>
              <a:t>one</a:t>
            </a:r>
            <a:r>
              <a:rPr b="0" lang="en-US" sz="2800" spc="-1" strike="noStrike">
                <a:solidFill>
                  <a:srgbClr val="ffff00"/>
                </a:solidFill>
                <a:latin typeface="Adobe Garamond Pro Bold"/>
              </a:rPr>
              <a:t> version of your completed character in costu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666880" y="752400"/>
            <a:ext cx="381024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90920" y="380880"/>
            <a:ext cx="3792240" cy="603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362320" y="380880"/>
            <a:ext cx="447012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09680" y="304920"/>
            <a:ext cx="48722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You’ll need a n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390760" y="136440"/>
            <a:ext cx="4362480" cy="65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90920" y="380880"/>
            <a:ext cx="394632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06:01:43Z</dcterms:created>
  <dc:creator>ASB</dc:creator>
  <dc:description/>
  <dc:language>en-US</dc:language>
  <cp:lastModifiedBy>ASB</cp:lastModifiedBy>
  <dcterms:modified xsi:type="dcterms:W3CDTF">2008-03-10T06:57:09Z</dcterms:modified>
  <cp:revision>12</cp:revision>
  <dc:subject/>
  <dc:title>Creating your own Superhero</dc:title>
</cp:coreProperties>
</file>